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52D-F192-48AF-8E2B-2578E0B0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607-DD54-426B-BC2B-5A4B933B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6F9-AFEB-4B3F-848A-34A067C0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F7E-4373-42E3-9048-81BDCB03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8C2-B720-4528-BFEB-5F8253A5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EA9-2762-4F94-B71C-71B46C57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A4A-FFCD-474A-9125-9F184EEE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403-6836-43B5-9A6B-F8F030EA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429-FFAA-45CA-80BE-4BFCA59E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AF1-8544-4101-BF42-18F73F4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89B-A2B7-4B1D-BC49-8FBF376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1DC-C6DF-48C9-BCD8-0B06CEBA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02F9-D2CB-4D55-8D03-40A920E75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vznan@atnet.ru" TargetMode="External"/><Relationship Id="rId2" Type="http://schemas.openxmlformats.org/officeDocument/2006/relationships/hyperlink" Target="http://www.sevznan.ru/" TargetMode="External"/><Relationship Id="rId3" Type="http://schemas.openxmlformats.org/officeDocument/2006/relationships/hyperlink" Target="http://sevznan.r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sevznan@atnet.ru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sevznan.ru/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evznan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vznan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05240" y="847800"/>
            <a:ext cx="7733520" cy="3375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Как работают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КУРСЫ </a:t>
            </a:r>
            <a:br>
              <a:rPr sz="4800"/>
            </a:br>
            <a:r>
              <a:rPr b="1" lang="en-US" sz="4400" spc="-1" strike="noStrike">
                <a:solidFill>
                  <a:srgbClr val="800080"/>
                </a:solidFill>
                <a:latin typeface="Calibri"/>
              </a:rPr>
              <a:t>«менеджеров по персонал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143320" y="492876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Calibri"/>
              </a:rPr>
              <a:t>Никонорова Татьяна Александ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тел./факс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(8184)56-36-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vznan@atnet.ru</a:t>
            </a: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evznan.ru</a:t>
            </a:r>
            <a:r>
              <a:rPr b="0" lang="en-GB" sz="2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г.Северодвин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50804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3341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5084640"/>
            <a:ext cx="3517920" cy="139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4360" y="620640"/>
            <a:ext cx="7920000" cy="515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Курсы в нашем центре отличаются грамотным соотношением </a:t>
            </a: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«Цена-Качество»</a:t>
            </a: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28b11"/>
                </a:solidFill>
                <a:uFillTx/>
                <a:latin typeface="Arial"/>
              </a:rPr>
              <a:t>Грамотным – потому, что подтвержденное качество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28b11"/>
                </a:solidFill>
                <a:uFillTx/>
                <a:latin typeface="Arial"/>
              </a:rPr>
              <a:t>намного выше стоимости кур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По окончании обучения на курсах каждый слушатель получает документ, подтверждающий его квалифик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28b11"/>
                </a:solidFill>
                <a:uFillTx/>
                <a:latin typeface="Arial"/>
              </a:rPr>
              <a:t>Этот документ дает право работать в должности менеджера по персоналу, директора по персоналу в компаниях малого, среднего и крупного бизнеса любых организационно-правовых 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И в заключении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320" y="1000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Заработная плата специалис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в области менеджмента по персона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в г.Северодвинс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колеблется от 10 000 рублей до 25 000 рублей в меся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В г.Архангельске доходит до 50 000 рубеле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урсы менеджеров по персонал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 образовательном центре «Знание» - это Ваш шанс сделать первый шаг по карьерной лестниц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900ff"/>
                </a:solidFill>
                <a:latin typeface="Calibri"/>
              </a:rPr>
              <a:t>Построй свою Карьер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7"/>
          <p:cNvSpPr/>
          <p:nvPr/>
        </p:nvSpPr>
        <p:spPr>
          <a:xfrm>
            <a:off x="4211640" y="4221000"/>
            <a:ext cx="431964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evznan@atnet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8 (8184) 56-36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ул. Комсомольская д.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Puzzle Press Limited - Puzzles"/>
          <p:cNvPicPr/>
          <p:nvPr/>
        </p:nvPicPr>
        <p:blipFill>
          <a:blip r:embed="rId2"/>
          <a:stretch/>
        </p:blipFill>
        <p:spPr>
          <a:xfrm>
            <a:off x="468360" y="1484280"/>
            <a:ext cx="4103640" cy="23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Puzzles: sudoku puzzles, crosswords, wordsearch puzzles and many more"/>
          <p:cNvPicPr/>
          <p:nvPr/>
        </p:nvPicPr>
        <p:blipFill>
          <a:blip r:embed="rId3"/>
          <a:stretch/>
        </p:blipFill>
        <p:spPr>
          <a:xfrm>
            <a:off x="4572000" y="1484280"/>
            <a:ext cx="4103640" cy="2344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16000"/>
            <a:ext cx="7921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Спасибо за внимание</a:t>
            </a:r>
            <a:r>
              <a:rPr b="1" lang="en-US" sz="4400" spc="-1" strike="noStrike">
                <a:solidFill>
                  <a:srgbClr val="800080"/>
                </a:solidFill>
                <a:latin typeface="Calibri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4581360"/>
            <a:ext cx="3517920" cy="139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Как благополучие компании или предприятия зависит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 от кадровой полит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5320" y="1000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рамотный подбор персонала позволяет серьезно повысить эффективность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Психологическая совместимость сотрудников– верный путь к достижению финансового успеха за счет слаженности выполнения каждого задания.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ем на работу людей, нацеленных на профессиональный рост – хорошее средство обеспечить движение вперед и вверх всей компании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Подбор персонала, готового полностью посвящать рабочее время работе – это быстрая «окупаемость» средств, вложенных в каждого сотрудника в виде организации рабочего места, выплаты зарплаты и отпускных.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5445000"/>
            <a:ext cx="2077920" cy="82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  <a:ea typeface="Arial"/>
              </a:rPr>
              <a:t>Курсы менеджеров по персоналу в Образовательном комплексе «Знание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1920" y="1142640"/>
            <a:ext cx="8915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это ваш шанс изменить свою жизнь к лучшему, если Вы человек, задумавший перейти в другую сферу профессиональ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И реальный шанс наилучшим образом выстроить кадровую политику Организации, если Вы руководитель, и намерены отправить работников отдела кадров на курсы повышения квалификации менеджеров по персоналу.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Как работают курсы менеджеров по персонал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000080"/>
            <a:ext cx="8915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сновная задача, которую решают курсы менеджеров по персоналу – подготовка специалистов-«кадровиков» с учетом требований, предъявляемых Трудовым Кодексом РФ  и Гражданским кодексом</a:t>
            </a:r>
            <a:r>
              <a:rPr b="1" i="1" lang="e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В течение Курса специалисты-преподаватели с самым серьезным «кадровым» прошлым обучат всех слушателей кур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861e16"/>
                </a:solidFill>
                <a:latin typeface="Calibri"/>
              </a:rPr>
              <a:t>правилам разработки и оформления кадровой документации и правилам юридического сопровождения кадровых решений руководителей предприятий различных организационно-правовых фор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6093000"/>
            <a:ext cx="1573200" cy="62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33360"/>
            <a:ext cx="8421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1e16"/>
                </a:solidFill>
                <a:latin typeface="Calibri"/>
              </a:rPr>
              <a:t>Какие темы изучают наши слушатели на курсах менеджеров по персонал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755640" y="4352760"/>
            <a:ext cx="7848720" cy="66060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азовые принципы социальной психолог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зволяющие управлять коллекти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828800" y="3819600"/>
            <a:ext cx="5486400" cy="45720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Calibri"/>
                <a:ea typeface="Times New Roman"/>
              </a:rPr>
              <a:t>Методики подбора персонала</a:t>
            </a:r>
            <a:r>
              <a:rPr b="1" i="1" lang="en-US" sz="20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39640" y="3286080"/>
            <a:ext cx="8136000" cy="45720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зновидности кадровых документов, их оформление и уч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979640" y="2781360"/>
            <a:ext cx="5486400" cy="45720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61e16"/>
                </a:solidFill>
                <a:latin typeface="Arial"/>
              </a:rPr>
              <a:t>Трудовой Кодекс Р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"/>
          <p:cNvSpPr/>
          <p:nvPr/>
        </p:nvSpPr>
        <p:spPr>
          <a:xfrm>
            <a:off x="826920" y="1844640"/>
            <a:ext cx="7632720" cy="8319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азовые сведения о механизме работы кадровой служ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кадровой полит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539640" y="5229360"/>
            <a:ext cx="8294760" cy="117792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боту с компьютерными программ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том числе  программа «1С Зарплата и кадры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2148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Какие навыки получат слушатели курсов </a:t>
            </a:r>
            <a:br>
              <a:rPr sz="2400"/>
            </a:b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менеджеров по персонал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5640" y="5419800"/>
            <a:ext cx="7993080" cy="45720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Увольнение сотрудников по различным статьям Трудового Кодекс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476360" y="4886280"/>
            <a:ext cx="6264360" cy="45720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Составление графика отпусков сотрудников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835280" y="4365720"/>
            <a:ext cx="5559120" cy="4572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Работа со штатным расписанием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1828800" y="3819600"/>
            <a:ext cx="5486400" cy="4572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Ведение учета рабочего времени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971640" y="3213000"/>
            <a:ext cx="7129440" cy="4572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Прием и юридическое оформление новых сотруд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1828800" y="2752560"/>
            <a:ext cx="5486400" cy="45720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Работа с трудовым договором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468360" y="2219400"/>
            <a:ext cx="8351640" cy="45720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Организация и ведение номенклатуры дел службы персонала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8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609480" y="981000"/>
            <a:ext cx="8139240" cy="100800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Грамотное составление всех видов докумен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рганизационно-распорядительн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информационно-справочных, документов по личному соста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1830240" y="5950080"/>
            <a:ext cx="5486400" cy="4572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Методы решения трудовых сп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Почему наиболее рационально пройти курсы </a:t>
            </a:r>
            <a:br>
              <a:rPr sz="4800"/>
            </a:b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менеджеров по персоналу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в нашем Образовательном Центре «Знание»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774720"/>
            <a:ext cx="8136000" cy="588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сы менеджеров по персоналу дей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шем центре уже 3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За это время мы подгото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лее 200 менедж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За годы работы курсов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сумели подобрать высокопрофессиональный коллекти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аждый преподаватель – не только теорет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о и прак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рактика, как известно, дает знание таких тонк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юансов профессии, которые невозможно пости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я лишь теоретическую подгот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642600"/>
            <a:ext cx="8915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 курсах менеджеров по персоналу мы работаем с самой современной законодательной баз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Ни одно изменение, внесенное в Трудовой Кодекс РФ, не проходит мимо нас – каждое находит отражение в программе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Занятия на курсах менеджеров по персоналу проходят в утренних и вечерних группах, в рабочие и в выходны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Учитываются пожелания слуша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8:13:40Z</dcterms:created>
  <dc:creator>user</dc:creator>
  <dc:description/>
  <dc:language>en-US</dc:language>
  <cp:lastModifiedBy>usertm</cp:lastModifiedBy>
  <dcterms:modified xsi:type="dcterms:W3CDTF">2010-01-15T06:28:22Z</dcterms:modified>
  <cp:revision>56</cp:revision>
  <dc:subject/>
  <dc:title>Подготовка специалистов по информационной безопасности для финансовых организаций</dc:title>
</cp:coreProperties>
</file>